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"/>
          <p:cNvSpPr/>
          <p:nvPr/>
        </p:nvSpPr>
        <p:spPr>
          <a:xfrm>
            <a:off x="0" y="0"/>
            <a:ext cx="6760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dt" idx="112"/>
          </p:nvPr>
        </p:nvSpPr>
        <p:spPr>
          <a:xfrm>
            <a:off x="3828600" y="-36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8840" cy="370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 type="ftr" idx="113"/>
          </p:nvPr>
        </p:nvSpPr>
        <p:spPr>
          <a:xfrm>
            <a:off x="0" y="938664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 type="sldNum" idx="114"/>
          </p:nvPr>
        </p:nvSpPr>
        <p:spPr>
          <a:xfrm>
            <a:off x="3828600" y="938664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BA1F-BE4A-414F-B562-744083065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Номер слайда 3"/>
          <p:cNvSpPr/>
          <p:nvPr/>
        </p:nvSpPr>
        <p:spPr>
          <a:xfrm>
            <a:off x="3828960" y="9387000"/>
            <a:ext cx="2930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2302-464F-45AA-848D-CEEB516BACEF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D24-BFF4-4FF4-B7AF-CECE5A70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530-B979-42E1-A928-47D84D5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CDC45-0F67-4CF0-9EA2-A81676F1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7BE7-20BE-46D0-9C90-11EAD81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41B4F-DB6F-466C-88C7-AFF1BFE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054C3-79AB-4111-8C68-DA68515D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52856-1E3D-4846-AC72-D491AF6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C4A4C-74C1-4661-8476-9479D82A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9B57A-F8B4-4375-A78B-64085C1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EAA56-1BDD-410E-BCCF-2F844C7D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45B5C-FB6B-4DC2-BA2E-5D8080A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BE90C-55BB-4E8B-AE46-C93B8105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AE9-4032-4631-8B6A-EA762AC4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5FA8F-B105-4DE3-BC00-40784DC2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CCB13-89B0-45C6-9BD2-C048E266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A1C99-2C88-4E70-A962-50D87E26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935F-F84D-4EE1-B46F-C10C16A2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21F23-EDC4-4ADB-9B3D-61C3C825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46681-F926-4A52-A91C-32AF72D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57244-D29D-44A8-8DD2-61B4BCF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EE9C5-5E1D-424A-B014-694857D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F9CF1-16D9-4982-9D71-874A0CE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C6540-C641-4353-86D7-F6D06869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B12-8107-4302-A89C-0E1CF61A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AAF50-D70E-4511-98DB-A3B28CD4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34932-D465-4B8F-9012-07A6D862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3013-D6AB-4102-9558-5DC25D5D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CA230-2425-4407-8C0A-C2579B45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0B75B-770E-4299-9889-F0588CBB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F1E24-C383-4590-886C-B1E21F4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0AAF3-CC4E-46F8-9282-AB8B7067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12215-C1F1-4990-B5DB-1F9E4C3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18D57-C8EF-4BCD-9EC8-E3A3ED1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D1A86-B92B-4EFC-B18D-C78F1E5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D424-0A6C-4C34-9DD5-33248052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EB96-3F5F-4DEA-82D4-B425421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A1885-1510-4FF2-92AE-52D83952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A981-1582-4B6D-99B1-F09FFDFC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9C6667-DC2B-46F3-8B91-44B4627D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49EA7A-A9F3-41AC-888F-62BE8142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C3C2F8-0BFA-4CA9-8AFB-CB033A63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CB409-061D-4A5A-8284-3D8A75C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053A32-7A8E-433E-93D1-9ED487A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041015-5923-49CA-A5C1-12697EAB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B29B8-2097-45C2-8BEC-A2882E6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DA0A-F80E-4804-996C-F507A89D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E5D8DA-E79C-4A58-BE85-889B27E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832168-4410-4286-8EFD-41F93A5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F936AC-F434-4A8F-9B98-73CFCB4A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EB2440-1941-4917-8CB0-9E875C91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EA9544-B541-4519-B5AF-B69E6174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0B6D9-D495-473A-A024-DE66EFF1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ACA41-F297-495F-AF12-6F4AB75B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F1D74-C800-4CED-80E6-5C60053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BF472-3843-4743-A1F1-35B54EC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E41EF-9A33-457B-BE17-5F4B09C2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1F47-79FF-448D-8E1F-764F1E8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6D0B7-854C-4853-874A-C969C0D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CD766-C35E-4C72-9E63-150DC0F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997D7-F62A-4FE6-9A41-8D27296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D252D-2F90-4733-AAF7-A6D880B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1CFC3-7FE9-47F2-AA4F-1E26821F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4188E-2355-49B2-A114-7BE8EF61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1796F-3664-4DB4-A9F8-A93AB75E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302C6-742E-4F00-8FA7-95A0BD82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06E2D-BDF5-4316-AEA4-B401CE1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0E009-11D6-4759-91C4-2D910CC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3EBC-353B-466B-9D03-BC42896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E8D48-DC74-43B0-A481-1804A02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C22CC-EDBD-408D-9F21-D0F86FBF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AFE98-B04F-409C-AEE1-57BB3A1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BB321-F6A7-418A-A872-F086F45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01798-B768-4226-9325-C6A3F3A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48139-8333-436A-9F36-5049473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7817B-C125-4D65-B1FE-FFEE13D6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46E09-3992-4230-9897-29BF94FA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5457D-8779-4B11-A65C-693388F6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9D471-DAB8-4676-8083-5E4D680A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9386-C2F8-4EB6-AA7E-57AE3EC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A6896-D80E-48A2-9E61-44032493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15B5E-B1DC-4946-A640-A25B8D00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42219-D563-4EB6-9BA6-8596D14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68CE4-92E8-4BC1-9153-0AC73CE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4055F-BF36-4AA2-95F4-360EA2A0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074DF-E2AC-4C9D-9E3A-9D62A03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09294-0457-48F5-BC52-1F8274A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9AC93-D02A-4D2C-A3EB-8C12182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63279-50B7-43B9-908A-BACD08D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AC0E0-4F6A-4B74-83A6-CE37AB11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759-6024-42A9-B58F-BA0AA6A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AB8D9-C7D2-45E6-AEC4-1C2AEE65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E3048-138E-4F3B-B8EA-584B5AE2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E38D8-2E21-4CBD-B937-2963D26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DFA4A-F17A-4961-9C66-65E91FC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0F817-BF0D-4482-A0B6-13C6AF9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59875-9753-439A-A284-A4F3DE1B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8A150-8E99-452B-8929-1FC4377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C0886-313A-439E-9002-DD6CC53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89A43-96EC-4C5D-92BA-3645D48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89BEB-B9BC-4E27-9E47-E529EBB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12D2-B7CD-4320-9D21-02BAF54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BB78B-F407-4C23-BD19-D9844896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018AB-4319-4478-9D1F-88A0FC1C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73534-4E72-473E-82D8-2DBBF129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31A4A-BEEE-4471-B491-567B840E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4E21E-5AF8-40C4-8C64-BEBA44B2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6E061-B6FF-4DC6-B7F8-8B8DF97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B8480-7216-427A-91D2-815BBF9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BE793-B1BE-4856-ABCA-A651A792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9AC4E-31B5-4273-BCD5-B2A64E12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0F813-F801-4746-AAC5-E4F5AECB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EA2-641B-4B00-A045-6762E968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E482-BF4F-4EAA-9DDD-3675685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10CEE-72CA-42C9-869F-505F3CE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808EB-C7A8-4318-969F-1F016C6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D02BC-7237-471A-9A3A-54E8C35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3E622-AFEB-4DD4-A8E7-3D6E8036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566B1-87F1-4012-93FA-2B110D34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C5C80-1137-4026-9743-42C526AF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90799-39E6-4F5D-B68F-27B7CC39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7BA17-37F9-41A8-9049-D02FBF5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FE06F-3F8E-4935-B40C-30013F9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01D19-FFB9-47A2-B1E5-5DD26F8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D7C-A9AB-499A-A10C-225A663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9C30A-F0CB-4E2B-AA52-98BB7DC4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C395E-EC18-4A29-95B4-8459071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DE1F0-54B5-4932-B656-54E2FCF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98337-0D4B-47BD-87E0-6300CAD0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B774B-6790-449E-8CDD-4F239A8F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7DA67-AEE9-466E-B379-8BB5E051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E2801-5454-46A6-85B7-6EADBB31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2F1E6-20D5-4972-8CA8-C068E057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9A086-2253-4625-856A-B6BCD93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10AF3-BF41-4F39-82A0-DB919CB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3186-A829-4BFD-8D1B-3AEE7A8B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83B79-489A-4C86-A752-9AF24003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A7474-2B0D-4FF1-B45A-F83A8FC4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CD703-05DD-4F8B-B6E8-E1EADB1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AC804-66E3-42CC-955E-0A48F2B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EB76D-DB1C-4AB2-A5D5-9136C08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65243-75DF-40FE-AEE0-999907E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84D49-4703-4769-B01C-7AE84BCA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6BE27-967F-48C0-9AEB-15007EB2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3CE37-6005-48C3-82CB-CE8CA93F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A0D5F-1F0F-481A-AFF2-B1F4E317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37B-8A69-494E-BF25-4E994FB0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532B8-9B95-44A9-BC69-CEFBC82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89013-F386-4ECC-96FC-EBF6F30F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3190D9-FFE5-439D-AD47-820D8ECF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AA697-F18D-46F8-BEEE-8747DD3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6B22E-2DFA-48F7-96E6-C8B287B4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5D3CA-4D46-4BBA-9D98-DC34488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A6421-65B8-4203-8143-8BD003C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2EBF26-20DB-42F7-84CE-D68D4356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42987-6DD2-4EBE-9297-BA070270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0311B-E649-49E4-BF78-B9344E87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6D83-3DDD-42AA-9028-9F2E810B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27256-6D8C-4ECB-B760-1D8E1485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C73B4-BAD0-4DF5-98DF-95CDDBF3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4849F-BF23-4E19-81FC-E4F2BB7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A6EC2-6204-4CCA-9AAA-803CAC81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8AB12C-A3F0-42AD-A12A-65AA8125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25F50-4CEB-4ED3-A6F6-B0008972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BCA15-F9D6-428B-BF22-BED5973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917F4-848E-4510-9FF5-B178744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709A7-9255-412A-80F4-377F60C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9850B-D337-40A4-85D5-B162983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8C53-EB3F-4800-9E27-DB1CB1B0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559F9-EA3A-46DF-919A-5F33A461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A6D9D-3840-49E4-9B30-3979A9B9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7369F5-35CC-431E-8F97-81A97ADF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483881-E084-4E43-926F-520FCBE2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243722-4BB3-4B44-B9A3-8FE13331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91762C-74EF-412F-81CD-5DBB8CA9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22941-2D67-4BEC-9FD8-926D1115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136D59-BEF6-4297-B0C0-ADE6B886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3167E0-46EC-49BC-A448-836BA45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3BE81B-CAF5-41AE-954A-B3FA778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134B-D788-4E4E-9BB3-B412D8EA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E4D04F-E521-4ACE-AAC3-D67E517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B61CC7-369E-4B08-BC77-9EC0AE4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5531B5-2B43-44E6-B68B-427C35E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88EEC-77D4-4967-9EAB-D3937008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EBCC6-8D4E-4593-8DBA-D17A68C9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86208E-9AE3-416B-B4A6-556E7CFB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AED968-76D7-43DF-9BDF-FD9281D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F46D72-F78B-4C0F-AF58-B8AA94D1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C8460D-D02C-4438-9928-87EA6DE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D6F71-5782-4BBB-BA3C-43CA9227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87E2-9CF2-4D41-B1A3-34F562EC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8B3E1-084F-4722-B304-448B623D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83002-0D34-4DCC-A597-85D49C1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88E84A-2BDE-4963-9127-5813E94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20619-D334-4FAE-9CFB-35BABCD4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479F05-F80D-4BF9-A90A-93CA1EA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B1C1B-7344-4973-A29D-518FA276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FE0ABD-37D6-44A1-84EE-C2566E3A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6F884C-DAFE-467C-B552-C8437A7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9661F4-6ADB-46C5-975F-83832C7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BA72F5-06C7-4B10-987A-7C06CDEE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A054-73D5-4A79-AC86-E3C8ADD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DFFE30-468D-4C66-8424-18E677B7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B4C9E-37A2-4152-AC72-01EA322D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08910-7AFF-4437-9BF1-AAFE1768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E4FB48-C9CA-423E-BED5-A901D500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A17840-17FA-44A4-95B4-0E5C1E8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E3AA93-3293-4966-B2CC-DC42395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E19A59-B38F-45EC-AD8D-8F4F05EB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ECEBF1-9E16-4314-8D1F-73634F7B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ADBB7-DC89-4B32-938D-FE77A881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D5B9F9-FFC7-4F13-918F-DD064629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F8AB-42D5-41C5-938D-836402F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7FF19E-B38D-46FF-AC7E-192E353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4DB663-4E6E-4371-9CE3-3B95F9D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FB96AE-2747-4D79-868E-90E516E6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5DBFB-2BCF-4D22-9DF5-82C63A61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C1322-98DA-41DF-9CCB-84E00F7B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499FDC-C389-486F-8A33-0A49D09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A8D752-0055-4DEA-A7E8-B0C5AA0E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5C6C1D-D3C5-484C-A74F-CAB26DD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B53128-5CC3-4836-AB12-B2719907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2512D-63E6-42D2-8C3D-166B813D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D1C-3E5A-4F85-87F5-DA176C4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7703-CA02-4DFA-A268-E63A8C9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5FC05B-BDE5-4690-90B1-9916BF52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688DA4-A63C-464A-9C0A-46EB25BA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7E240-6355-4C87-96EC-F70AECD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6A1A68-CC4B-4647-BAEF-CC686225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8F13EB-171C-4176-85A5-75F55741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B1CB9F-F8A3-478D-9744-5B51BFF4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DDFDDF-244E-476E-95FD-41FE6334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B76CA0-EC57-44F8-A9F9-3584937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721B14-A84D-4F6E-A303-EB921FC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F9859D-023A-4DD7-AA6E-2530EF8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152A-91B1-4196-BCA7-3A3E4DB3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E7C4DD-5B6A-4AA2-A86A-91500B6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7FFF64-242B-4B11-86D0-9EC9890E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5045A0-912F-4AE2-B69F-3155F2F7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A4FBC7-0723-4F5B-92A8-B9A12BB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85848A-68B0-4405-9073-5EB32C45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A453BC-B1C2-41FE-A47F-06CE1DE2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1B2583-C801-4C01-9C07-8808CF3D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C7B5BF-F5A6-4AB4-9793-4B00437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C5DEBF-C15E-4D4F-B765-0F9CE090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FF1D2A-FBF7-49D2-83AC-A00E5BD8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4FDE-9AFF-4AD0-9559-4805544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63F743-EEAD-4703-9713-A598156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334DE3-3474-44AA-88B6-774F9DE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4A5EEC-FB8C-455A-B98F-684A257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B0368C-7491-480C-BA02-4E33C4B7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E49E29-B759-4EE3-A799-8CB840C3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7DFECE-6DC8-40B0-9A2E-BABEF9CC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250EEE-A642-4F87-8492-B584EB08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BD4E7B-0F50-4BF2-BA7E-287FD65B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FD7172-C924-48FE-BE03-BB533BF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3CFD4A-201C-4174-B0EF-AB65399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A403-19A6-407A-8314-A645BC5B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F5F50F-80BE-41D8-AC52-CF32F4C5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5F8CD1-23DB-4239-A0CC-A10AC79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57358E-88D9-404A-9EF0-2260804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32D772-110F-4967-9FAD-85C252C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89F025-301E-4432-B783-FFD73B8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617EFD-D648-4FA8-B3A6-101A41F7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5F6814-9795-4A0A-BF07-9880AE64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173623-23C1-4C99-B839-94787BCA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77005C-825E-40A4-8271-A875A866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8EAF43-E007-4C54-A607-E511556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4012-C8FF-4EB2-AB00-78A86337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D53E1A-9772-49D9-92CD-B9F1DD6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0B45DC-63C2-4D3B-9E80-8AF361C1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E89F13-9314-4AEE-BC3B-5CF18049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1EA469-E799-4A43-85AD-1938BDA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800D88-EEAB-4937-88E4-C02A2A0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C6095F-95D6-46ED-997C-241D8FC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403A55-2F34-48B7-B574-EA1CB62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39EE18-E8F9-4876-80D7-94560380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B78B26-16B1-4D32-83C0-C976CD97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A99CE4-F96C-47C5-BDFE-EA43316A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6250-97D9-424F-9279-45181D5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0FA0A2-6A2C-49C7-8DA4-4B2D2460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E11624-1C7F-41ED-AD7B-AA8FF0B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330C0C-8BCE-4EDA-A40E-B699C6D0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7B96F1-889C-42DB-AF9A-9B47956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7CF6E7-9FAC-4400-A52B-7887A82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3D1612-B21B-48E1-8934-CD5D4511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537092-A28C-46BF-B5B7-2A2FCD61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C8839A-7A35-4C50-8B49-A690A16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771BE9-13AE-47C6-9679-666CF24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44C817-8E7E-4BA3-9917-5E54FD29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2AD5-FB96-4910-9C78-2C44CEFB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9F5840-4D84-4219-95B5-C90986D0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20A07D-32E1-4E76-BBEC-E2FCC7D9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D0017B-CF1D-438E-8D9D-6138924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62CEA1-862E-4B17-9EAB-0EB37C6E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F6E4F8-CB92-437E-BFAA-0EE92B0E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BA56E5-F3FC-44EB-9352-8809127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3CCE1E-1839-420D-A97B-45974D6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A4DA15-133F-4680-AE80-AAEA67A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E8A683-4DA3-4CA3-B7C7-AB8A1CE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2CF626-BB8E-4E5B-BDEB-0E284ADA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4096-3B33-4370-90A8-15EC09D7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98FFB9-8A0A-453D-B07D-750ECEA5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B37DFB-EB02-4237-8D35-E8AEDB0D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2F7D6E-CD5F-42FA-8287-FF9E417F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E4C04D-8AEB-43D4-AE8E-D94B61E2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E2C957-6ABA-4DC8-B9E6-73CF392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2B65A5-1568-4822-A974-03029724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932A56-3B4E-44B5-941F-32D1062A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5FD6B0-4D1A-4362-822F-EA4A36B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ABCFDA-4296-4E21-80D3-E7CBD598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BA9CC2-FB4A-4390-B147-59FA6427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AD01-8636-4A64-8202-7EC8B0FB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E1658D-6E5C-4309-A035-1867098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62D193-00D2-46E3-84D8-27D034C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7CA5D5-D471-4085-8278-895454C1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C6C986-8EE6-4FAF-A74F-2369A7C4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5FBFA5-99E3-4D79-B677-58D46673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432F71-A548-4471-A361-A8575970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535FEE-49B1-4B9E-BC63-6329B906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B8A344-1EAB-4522-A590-18ABA0BB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50BC6C-B9EC-4060-AABE-F3C82DAF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9FF376-735C-45E0-AA64-D2AE483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A157-8750-4B68-8BDF-85796BD4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A64516-B69F-4AB2-BB0F-E62B729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7BE719-EBA6-40CC-AAE7-9B01620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0674C6-DEA8-4C43-9A5D-1A47B3E9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13E8E2-43E4-4359-914D-99956B7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7C0D45-A43F-498A-9B63-C6587FB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026D6A-0068-41F6-98DD-256FF7E4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71596B-7B9D-472E-8946-78217292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C80CB3F-D6C3-4C97-A171-885126AF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1C9A6E8-9292-4A1F-981F-814155D5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07A5B87-5A12-463D-BE4C-81DA1B8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760-B3E8-4A62-AF99-76F2BECB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8DD6-6957-4CB9-A1EE-8480119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5620F6A-3768-47F9-B2D9-FF32EF4E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6F427F5-1A18-4D74-A5B2-9313C0C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71654CD-F75D-41D7-B715-4998D44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A951803-689F-4BAE-839D-AF4F48B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75E1257-BA2C-4849-8EC9-A708C36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EEEF260-B180-472A-BF49-891FA9D3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0EE58A0-1C12-4952-8873-2457B54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054856D-1000-4D5D-B521-95E767ED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D298E68-E5CE-4C08-BC6E-23D3746F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4C1D1C-AAD6-413F-96F3-08388E2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FB6A-8824-43BC-8205-8060B163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BD16A5-BE0E-47CC-9318-06F16841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EC1DFC-B931-40DC-AAEB-EA204E3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FBD9F5-EEF0-4068-B550-1B8485A4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BC967A-AF5C-4A6B-A87C-9597EE0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7C9A83-81D3-4123-91D3-73C99926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6A62FC-2C28-4E6B-9102-840A9B6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35F798-2B3C-4301-B6C5-49557A92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301ED3-18CA-43E7-B3D6-50BCD77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45EFD6-695B-48C5-93A7-DCF405E8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47D07E-57BD-435C-AE24-AA677041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E8EF-66E6-4059-94F6-CD3FD8B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824614-FC28-4A36-9858-4A5EC6A6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6F9AFF-AAEF-46D9-86BF-550C4B63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A88118-A9FC-4667-BCA6-7EB08825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9A40DA-B500-46EA-A658-FE9B4D17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B26720-1A7D-44FC-AFC0-6F98D9C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7CC189-5E3E-4817-BDAA-C4C64ADA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D6BAE3-6953-4878-8652-CBEAD99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B2EDFB-19F6-4EBE-A114-7A6D8E5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7EED8B-12B3-40FE-A44A-24E2296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8C1F10-A60F-4C0A-AC85-04E7DFC8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518C-2D46-4494-B5CB-088404D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E36D18-C30A-4A20-99AC-0E0D4A5A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C87C60-5F5F-48F9-8312-37703E81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AECDB5-59B6-4BED-A8EF-13F747CB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391B98-4B4B-412B-9F72-820769BC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82A269-CC1E-4059-8A63-979FE9B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E91B17-47F2-4C54-87B2-B59C3768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CD8427-C96D-4A7B-AD63-65445A3C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64F858-ED19-44A8-8C00-6F609DA1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AD7404-04E6-45E7-833D-3E40112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FCA7EA-4894-451F-A1F7-1C72446B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FB3B-76CB-4AD2-A5E0-085003E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CC7E34-3691-4280-B9E5-9CC27E1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C3FD92-68F4-4F39-A005-88570F7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B77C21-82A8-4015-872C-A84B6073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C5645B-B6A3-4F84-990A-B1B31A0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5DE683-59A0-4730-A9FC-419B372A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9E57-CD2D-4D3F-9683-0A885EE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A65E-367C-4098-9332-7425781F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626E-E936-4C57-84EA-4D73F925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8CAE-619F-47A9-9283-2D1CC9F0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592A-3784-40AE-A4A6-5ECAFE2D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628-57C5-4714-B48A-D378170E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56A3-6B06-41B1-8310-0238F27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B28D-F706-4D31-A8FD-F92BD2FB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867D-015F-4397-BC36-CBC87299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EA79-F7D7-444E-A9E2-F458D316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8E0E-B115-4CA6-AD4A-207B98F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A817-2E57-4B15-9B1F-CFED241C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65B0-65B4-4BDB-A7FC-E072CF59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D6D8-52D5-42D2-ADA5-3A9949D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2DDC-303E-448D-8631-6DB5C67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89E2-5323-47CE-85A9-CB822151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962-0A5B-4485-BED2-9F94952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C298-345A-45A3-9BE2-EB44D0F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EE6A-A9C4-4DF1-868C-A3DD5A66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1DB8A-FF98-48D4-BA70-B32051E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FC89-E341-4C56-8F3C-CB36E813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EF07-D26C-459F-9798-0BFE078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C7CA2-964F-49A2-90D3-7B41DD8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7000-8495-4764-B2CD-7CE4202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B03D0-0822-4B1F-A301-F057F06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B0F6-489D-46E2-ADB4-61AF0FEA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0BE2-D5B3-499E-A0DF-2B21285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E94-0FE8-4BEB-98CD-7A945B0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A8C4-6772-4AEC-9FC5-34202D71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0A70-CDC6-4540-91AB-91E86A3D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B8A61-C021-40FD-9EAC-2C5CD821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0726-8021-4AFD-A366-55AFF5B0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03CF-2718-4151-BC20-B6A5F954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C5F0-DDB3-48FC-A434-7245B33B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66D4-87B7-42B1-9856-7AE2AF0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ED61-7238-4FCD-AF74-C9B6BB8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21D0C-3EB6-4409-91EC-470757E8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20DFD-27CE-4ABA-84CE-85E734B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B5C-8B2B-4D0A-BC92-00F31C1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14A59-1ACB-4B7A-A6CB-F3C0A96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DE76-D162-4183-B579-19DBA80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A0FA6-BF01-498D-A31F-70440790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0D19F-81FC-4520-BCE7-B02E8B32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D085-7478-44AA-ADD6-FBE2BE05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A613-B0D2-473D-AC98-B53C0718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DA56E-185B-493F-909A-79D6486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D6100-2738-46EE-BF09-A7BC1A15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99B2-4DF9-4F7F-97D4-B2AC1D4F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695A0-AEA3-43C6-9769-4A61EF14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ED1-5DFB-49F0-8D8F-3707656D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1DE6-5ED0-4771-BD97-C819D973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9E55-9588-428C-9A9C-0597299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1F0D3-87C6-4F62-809F-9672075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5E80-DB4D-4B75-8010-1B2965F7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1672-3406-4A30-B57D-EAAA1893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5B12-4934-4CDC-8A33-FB5EF965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93D1-10B0-4505-B207-83A2B289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D06B-19CE-4763-BDDD-D4F342FC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AEDFC-C4E7-4409-8A2C-B39B8DE7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428C2-2B73-4D37-87C4-8FD410A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F4F-C0DE-4250-854E-BAB7E6AEFA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67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67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67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7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67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8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8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68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8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8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8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1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8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B832-FA90-4432-B782-D4B30894976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75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75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75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5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5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6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6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6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76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76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7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71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2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3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4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5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6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7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8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9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0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1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2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3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4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5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6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7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8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9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0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1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2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9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3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6D1-2676-4C02-9963-4A240820FC1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3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3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4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84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84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84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4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5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85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5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5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85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7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C686-7DAC-497C-B572-2CCCEF73354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ftr" idx="36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92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92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92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2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3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3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93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3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6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3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38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3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FECF-0DB0-4317-943F-C7C0C47784A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00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00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00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0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1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01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1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01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01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02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4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4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41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4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A568-A828-42FA-9F84-BF009C70136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08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09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09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9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09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9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09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0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0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10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0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0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10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2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4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4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4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309-1F80-4A26-A083-28550C44202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7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7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7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7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179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8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60E-ED0E-4F17-A85C-BF378583BBA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225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2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2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B76-5217-4D22-8E01-7E1681AA2A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27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27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7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17E-FBE0-4B9C-A3CA-0709106EF4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90F4-548E-45CF-89DA-DA6EE3C358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4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5BFB-F78C-4D19-874E-4D18E2A7F4E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6EA4-C1CD-461B-B41D-B538F182DF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0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325E-F4FA-4FB1-B25C-9C8D56B0C1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902-F222-457D-9490-3CCD72B640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D4B-52CA-44F9-B07C-85421D6B97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4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F48F-34DA-4084-9770-2183F82131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8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9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F58B-B796-4BBF-B1DC-A0E9B14D16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35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3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3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A53-7E1F-4FAB-9913-4909AA644C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8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684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8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688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9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0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9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69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4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9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98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1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2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3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4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5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6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7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8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9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0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1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2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3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5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6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7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8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9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1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2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dt" idx="79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 type="ftr" idx="80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 type="sldNum" idx="81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EEB-3D05-4747-A6A4-7621CCF28C7B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76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76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6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7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7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7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7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7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0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8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83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8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BE5A-5378-4B6B-A5EC-05BDF9AD2DF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84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85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85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5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85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5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85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6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6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6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6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8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8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86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87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672-87DF-4EA5-9A21-6E5D26AA9525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2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CE4-7BA6-4374-B8E2-2DF55F7BD94D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93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93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93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3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93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4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94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4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4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7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 type="dt" idx="88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 type="ftr" idx="89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 type="sldNum" idx="9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BEC3-AA2D-4E0F-AF61-EB322557F49B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4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01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01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01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2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02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2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02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2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31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2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3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4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5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6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7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8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9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0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1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2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3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4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5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6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7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8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9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0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1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2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5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 type="dt" idx="9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 type="ftr" idx="9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 type="sldNum" idx="9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309-3308-4AC2-B25C-665B73BD0841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7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098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099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100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1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2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03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104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5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6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07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108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9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0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111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2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3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14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5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6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7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8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9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0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1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2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3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4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5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6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7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8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9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0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1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2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3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4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5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36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7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8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 type="dt" idx="9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 type="ftr" idx="9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 type="sldNum" idx="9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435-DA40-46BD-8755-F349303D0661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18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18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18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8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18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9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19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9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9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19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9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9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9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1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9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9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9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C50-9A17-4FF4-A4BB-528A8BDD003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3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26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26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266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6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6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26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270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1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2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27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27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6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27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27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27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280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3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4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5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6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7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8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9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0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1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2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3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4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5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6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7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8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9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00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01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30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3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4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5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0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sldNum" idx="10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BC76-9422-41BE-9C7F-090AC286BBFD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ftr" idx="10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34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34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350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35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354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5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6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35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358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9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60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361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62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63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364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5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6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7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8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9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0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1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2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3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4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5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6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7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8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9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0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1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2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3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4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5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386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7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8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9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 type="dt" idx="10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 type="ftr" idx="10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 type="sldNum" idx="10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DCB-C95F-48A7-BAEE-14A424EE5EAD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43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43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43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3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3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43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43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3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4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44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44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4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4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44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44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44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44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4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47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 type="dt" idx="10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 type="ftr" idx="10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 type="sldNum" idx="10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160-810F-429C-852F-69F410874A18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4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51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51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51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1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1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52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52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52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52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52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2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3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531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2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3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4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5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6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7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8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9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0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1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2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3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4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5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6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7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8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9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0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1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2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55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 type="dt" idx="10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 type="ftr" idx="110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 type="sldNum" idx="1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170-EBDF-4061-90A8-5180DF0593C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7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7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8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9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2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13A-57A9-4883-8228-1B7BA5A0FCCC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6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7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9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426-9417-4C0E-8BF0-6EFE522D670E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40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41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42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3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4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45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6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7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8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49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50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51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52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53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56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7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9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0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1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2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3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4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5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6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7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8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9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0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1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2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3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4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5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6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7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78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947B-2F98-4B69-9033-A2B5ACB25AD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2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2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2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42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43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3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43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39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0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1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2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3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4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5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6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7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8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9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0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1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2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3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4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5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6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7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8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9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0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46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EAE6-CE4E-4EC3-A6EA-8013A6B5AF6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50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0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0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1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1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1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2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3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DF55-C3A8-47AE-A320-9757DC0BD0F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58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9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9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9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9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9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9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0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0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0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0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C0BE-CA8A-436C-B2D1-36EB8892614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05" name="Picture 2" descr=""/>
          <p:cNvPicPr/>
          <p:nvPr/>
        </p:nvPicPr>
        <p:blipFill>
          <a:blip r:embed="rId1"/>
          <a:stretch/>
        </p:blipFill>
        <p:spPr>
          <a:xfrm>
            <a:off x="1163520" y="1587600"/>
            <a:ext cx="681696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Прямоугольник 3"/>
          <p:cNvSpPr/>
          <p:nvPr/>
        </p:nvSpPr>
        <p:spPr>
          <a:xfrm>
            <a:off x="611280" y="8366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ПО ВИДАМ УГЛОВ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0" name="Line 5"/>
          <p:cNvSpPr/>
          <p:nvPr/>
        </p:nvSpPr>
        <p:spPr>
          <a:xfrm flipH="1">
            <a:off x="1771200" y="1628640"/>
            <a:ext cx="2800440" cy="341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1" name="Line 6"/>
          <p:cNvSpPr/>
          <p:nvPr/>
        </p:nvSpPr>
        <p:spPr>
          <a:xfrm>
            <a:off x="1763640" y="5084640"/>
            <a:ext cx="439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2" name="Line 5"/>
          <p:cNvSpPr/>
          <p:nvPr/>
        </p:nvSpPr>
        <p:spPr>
          <a:xfrm>
            <a:off x="4572000" y="1628640"/>
            <a:ext cx="158436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4" name="Line 4"/>
          <p:cNvSpPr/>
          <p:nvPr/>
        </p:nvSpPr>
        <p:spPr>
          <a:xfrm>
            <a:off x="3635280" y="191628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5" name="Line 5"/>
          <p:cNvSpPr/>
          <p:nvPr/>
        </p:nvSpPr>
        <p:spPr>
          <a:xfrm>
            <a:off x="3635280" y="5229360"/>
            <a:ext cx="28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6" name="Line 6"/>
          <p:cNvSpPr/>
          <p:nvPr/>
        </p:nvSpPr>
        <p:spPr>
          <a:xfrm>
            <a:off x="3635280" y="1916280"/>
            <a:ext cx="2881440" cy="331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8" name="Line 4"/>
          <p:cNvSpPr/>
          <p:nvPr/>
        </p:nvSpPr>
        <p:spPr>
          <a:xfrm>
            <a:off x="1305000" y="1989000"/>
            <a:ext cx="136836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9" name="Line 5"/>
          <p:cNvSpPr/>
          <p:nvPr/>
        </p:nvSpPr>
        <p:spPr>
          <a:xfrm>
            <a:off x="2673360" y="5084640"/>
            <a:ext cx="420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0" name="Line 6"/>
          <p:cNvSpPr/>
          <p:nvPr/>
        </p:nvSpPr>
        <p:spPr>
          <a:xfrm>
            <a:off x="1332000" y="1989000"/>
            <a:ext cx="554364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Прямоугольник 3"/>
          <p:cNvSpPr/>
          <p:nvPr/>
        </p:nvSpPr>
        <p:spPr>
          <a:xfrm>
            <a:off x="611280" y="836640"/>
            <a:ext cx="7777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ПО ВИДАМ УГЛОВ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УГОЛЬНЫЕ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Е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2" name="Равнобедренный треугольник 4"/>
          <p:cNvSpPr/>
          <p:nvPr/>
        </p:nvSpPr>
        <p:spPr>
          <a:xfrm>
            <a:off x="4443480" y="1773360"/>
            <a:ext cx="1655640" cy="115092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3" name="Равнобедренный треугольник 5"/>
          <p:cNvSpPr/>
          <p:nvPr/>
        </p:nvSpPr>
        <p:spPr>
          <a:xfrm>
            <a:off x="4656240" y="5300640"/>
            <a:ext cx="1500120" cy="1058760"/>
          </a:xfrm>
          <a:prstGeom prst="triangle">
            <a:avLst>
              <a:gd name="adj" fmla="val 7165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4" name="Прямая соединительная линия 7"/>
          <p:cNvSpPr/>
          <p:nvPr/>
        </p:nvSpPr>
        <p:spPr>
          <a:xfrm>
            <a:off x="4514760" y="3479760"/>
            <a:ext cx="2136960" cy="124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5" name="Прямая соединительная линия 9"/>
          <p:cNvSpPr/>
          <p:nvPr/>
        </p:nvSpPr>
        <p:spPr>
          <a:xfrm>
            <a:off x="4500720" y="3479760"/>
            <a:ext cx="80640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6" name="Прямая соединительная линия 11"/>
          <p:cNvSpPr/>
          <p:nvPr/>
        </p:nvSpPr>
        <p:spPr>
          <a:xfrm>
            <a:off x="5307120" y="4613400"/>
            <a:ext cx="1352520" cy="11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7" name="Дуга 22"/>
          <p:cNvSpPr/>
          <p:nvPr/>
        </p:nvSpPr>
        <p:spPr>
          <a:xfrm>
            <a:off x="4971960" y="4344840"/>
            <a:ext cx="588960" cy="648000"/>
          </a:xfrm>
          <a:custGeom>
            <a:avLst/>
            <a:gdLst/>
            <a:ahLst/>
            <a:rect l="l" t="t" r="r" b="b"/>
            <a:pathLst>
              <a:path stroke="0" w="588963" h="647700">
                <a:moveTo>
                  <a:pt x="177714" y="26547"/>
                </a:moveTo>
                <a:cubicBezTo>
                  <a:pt x="268521" y="-16586"/>
                  <a:pt x="372953" y="-6702"/>
                  <a:pt x="455723" y="52859"/>
                </a:cubicBezTo>
                <a:cubicBezTo>
                  <a:pt x="529140" y="105690"/>
                  <a:pt x="577312" y="191770"/>
                  <a:pt x="587118" y="287652"/>
                </a:cubicBezTo>
                <a:lnTo>
                  <a:pt x="294482" y="323850"/>
                </a:lnTo>
                <a:lnTo>
                  <a:pt x="177714" y="26547"/>
                </a:lnTo>
                <a:close/>
              </a:path>
              <a:path fill="none" w="588963" h="647700">
                <a:moveTo>
                  <a:pt x="177714" y="26547"/>
                </a:moveTo>
                <a:cubicBezTo>
                  <a:pt x="268521" y="-16586"/>
                  <a:pt x="372953" y="-6702"/>
                  <a:pt x="455723" y="52859"/>
                </a:cubicBezTo>
                <a:cubicBezTo>
                  <a:pt x="529140" y="105690"/>
                  <a:pt x="577312" y="191770"/>
                  <a:pt x="587118" y="2876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8" name="Дуга 31"/>
          <p:cNvSpPr/>
          <p:nvPr/>
        </p:nvSpPr>
        <p:spPr>
          <a:xfrm rot="21058800">
            <a:off x="4043160" y="605448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814387" y="171807"/>
                </a:moveTo>
                <a:cubicBezTo>
                  <a:pt x="855753" y="223579"/>
                  <a:pt x="885370" y="283725"/>
                  <a:pt x="901187" y="348079"/>
                </a:cubicBezTo>
                <a:lnTo>
                  <a:pt x="457200" y="457200"/>
                </a:lnTo>
                <a:lnTo>
                  <a:pt x="814387" y="171807"/>
                </a:lnTo>
                <a:close/>
              </a:path>
              <a:path fill="none" w="914400" h="914400">
                <a:moveTo>
                  <a:pt x="814387" y="171807"/>
                </a:moveTo>
                <a:cubicBezTo>
                  <a:pt x="855753" y="223579"/>
                  <a:pt x="885370" y="283725"/>
                  <a:pt x="901187" y="3480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9" name="Прямая соединительная линия 33"/>
          <p:cNvSpPr/>
          <p:nvPr/>
        </p:nvSpPr>
        <p:spPr>
          <a:xfrm>
            <a:off x="4443480" y="2708280"/>
            <a:ext cx="1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0" name="Прямая соединительная линия 35"/>
          <p:cNvSpPr/>
          <p:nvPr/>
        </p:nvSpPr>
        <p:spPr>
          <a:xfrm flipH="1">
            <a:off x="4599000" y="2708280"/>
            <a:ext cx="7920" cy="1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Равнобедренный треугольник 1"/>
          <p:cNvSpPr/>
          <p:nvPr/>
        </p:nvSpPr>
        <p:spPr>
          <a:xfrm>
            <a:off x="1231920" y="1665360"/>
            <a:ext cx="1584360" cy="1368360"/>
          </a:xfrm>
          <a:prstGeom prst="triangle">
            <a:avLst>
              <a:gd name="adj" fmla="val 500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2" name="Равнобедренный треугольник 2"/>
          <p:cNvSpPr/>
          <p:nvPr/>
        </p:nvSpPr>
        <p:spPr>
          <a:xfrm>
            <a:off x="3054240" y="3321000"/>
            <a:ext cx="1060560" cy="914400"/>
          </a:xfrm>
          <a:prstGeom prst="triangle">
            <a:avLst>
              <a:gd name="adj" fmla="val 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3" name="Прямоугольный треугольник 3"/>
          <p:cNvSpPr/>
          <p:nvPr/>
        </p:nvSpPr>
        <p:spPr>
          <a:xfrm rot="10800000">
            <a:off x="4834080" y="2906640"/>
            <a:ext cx="1706400" cy="914400"/>
          </a:xfrm>
          <a:prstGeom prst="rtTriangl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4" name="Полилиния 4"/>
          <p:cNvSpPr/>
          <p:nvPr/>
        </p:nvSpPr>
        <p:spPr>
          <a:xfrm>
            <a:off x="674640" y="2960640"/>
            <a:ext cx="2700360" cy="2286000"/>
          </a:xfrm>
          <a:custGeom>
            <a:avLst/>
            <a:gdLst/>
            <a:ahLst/>
            <a:rect l="l" t="t" r="r" b="b"/>
            <a:pathLst>
              <a:path w="2699657" h="2286000">
                <a:moveTo>
                  <a:pt x="1458686" y="1306286"/>
                </a:moveTo>
                <a:lnTo>
                  <a:pt x="2699657" y="2286000"/>
                </a:lnTo>
                <a:lnTo>
                  <a:pt x="957943" y="2242457"/>
                </a:lnTo>
                <a:lnTo>
                  <a:pt x="0" y="0"/>
                </a:lnTo>
                <a:lnTo>
                  <a:pt x="1524000" y="1349829"/>
                </a:lnTo>
                <a:lnTo>
                  <a:pt x="1524000" y="1349829"/>
                </a:lnTo>
              </a:path>
            </a:pathLst>
          </a:custGeom>
          <a:solidFill>
            <a:srgbClr val="94c600"/>
          </a:solidFill>
          <a:ln w="9360">
            <a:solidFill>
              <a:srgbClr val="94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5" name="Прямоугольный треугольник 5"/>
          <p:cNvSpPr/>
          <p:nvPr/>
        </p:nvSpPr>
        <p:spPr>
          <a:xfrm rot="5400000">
            <a:off x="5713560" y="4653000"/>
            <a:ext cx="914400" cy="914400"/>
          </a:xfrm>
          <a:prstGeom prst="rtTriangl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6" name="Равнобедренный треугольник 6"/>
          <p:cNvSpPr/>
          <p:nvPr/>
        </p:nvSpPr>
        <p:spPr>
          <a:xfrm>
            <a:off x="6883560" y="2333520"/>
            <a:ext cx="1368360" cy="1635120"/>
          </a:xfrm>
          <a:prstGeom prst="triangle">
            <a:avLst>
              <a:gd name="adj" fmla="val 2453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7" name="Полилиния 10"/>
          <p:cNvSpPr/>
          <p:nvPr/>
        </p:nvSpPr>
        <p:spPr>
          <a:xfrm>
            <a:off x="4741920" y="1501920"/>
            <a:ext cx="3375000" cy="653760"/>
          </a:xfrm>
          <a:custGeom>
            <a:avLst/>
            <a:gdLst/>
            <a:ahLst/>
            <a:rect l="l" t="t" r="r" b="b"/>
            <a:pathLst>
              <a:path w="3374571" h="653143">
                <a:moveTo>
                  <a:pt x="0" y="631371"/>
                </a:moveTo>
                <a:lnTo>
                  <a:pt x="3374571" y="653143"/>
                </a:lnTo>
                <a:lnTo>
                  <a:pt x="1589314" y="0"/>
                </a:lnTo>
                <a:lnTo>
                  <a:pt x="0" y="63137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8" name="Равнобедренный треугольник 11"/>
          <p:cNvSpPr/>
          <p:nvPr/>
        </p:nvSpPr>
        <p:spPr>
          <a:xfrm>
            <a:off x="4479840" y="3767040"/>
            <a:ext cx="1062000" cy="2614680"/>
          </a:xfrm>
          <a:prstGeom prst="triangle">
            <a:avLst>
              <a:gd name="adj" fmla="val 500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9" name="Полилиния 12"/>
          <p:cNvSpPr/>
          <p:nvPr/>
        </p:nvSpPr>
        <p:spPr>
          <a:xfrm>
            <a:off x="6662880" y="4103640"/>
            <a:ext cx="1152360" cy="2373480"/>
          </a:xfrm>
          <a:custGeom>
            <a:avLst/>
            <a:gdLst/>
            <a:ahLst/>
            <a:rect l="l" t="t" r="r" b="b"/>
            <a:pathLst>
              <a:path w="1153886" h="2373086">
                <a:moveTo>
                  <a:pt x="914400" y="0"/>
                </a:moveTo>
                <a:lnTo>
                  <a:pt x="0" y="2373086"/>
                </a:lnTo>
                <a:lnTo>
                  <a:pt x="1153886" y="892628"/>
                </a:lnTo>
                <a:lnTo>
                  <a:pt x="914400" y="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0" name="Равнобедренный треугольник 13"/>
          <p:cNvSpPr/>
          <p:nvPr/>
        </p:nvSpPr>
        <p:spPr>
          <a:xfrm rot="4203600">
            <a:off x="3340080" y="530676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1" name="Равнобедренный треугольник 14"/>
          <p:cNvSpPr/>
          <p:nvPr/>
        </p:nvSpPr>
        <p:spPr>
          <a:xfrm rot="20115000">
            <a:off x="3538440" y="1758600"/>
            <a:ext cx="1060560" cy="914400"/>
          </a:xfrm>
          <a:prstGeom prst="triangle">
            <a:avLst>
              <a:gd name="adj" fmla="val 48995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2" name="Прямоугольный треугольник 15"/>
          <p:cNvSpPr/>
          <p:nvPr/>
        </p:nvSpPr>
        <p:spPr>
          <a:xfrm>
            <a:off x="1042920" y="5246640"/>
            <a:ext cx="1297080" cy="979560"/>
          </a:xfrm>
          <a:prstGeom prst="rtTriangl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3" name="TextBox 18"/>
          <p:cNvSpPr/>
          <p:nvPr/>
        </p:nvSpPr>
        <p:spPr>
          <a:xfrm>
            <a:off x="674640" y="333360"/>
            <a:ext cx="50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Прямоугольник 3"/>
          <p:cNvSpPr/>
          <p:nvPr/>
        </p:nvSpPr>
        <p:spPr>
          <a:xfrm>
            <a:off x="611280" y="836640"/>
            <a:ext cx="777708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 номера остроугольных, прямоугольных и тупоугольных треугольников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роугольные_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ямоугольные__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упоугольные___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Прямоугольник 3"/>
          <p:cNvSpPr/>
          <p:nvPr/>
        </p:nvSpPr>
        <p:spPr>
          <a:xfrm>
            <a:off x="611280" y="836640"/>
            <a:ext cx="777708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15 баллов     «5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11-13 баллов        «4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8-10  баллов         «3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0-7 баллов            «2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Прямоугольник 3"/>
          <p:cNvSpPr/>
          <p:nvPr/>
        </p:nvSpPr>
        <p:spPr>
          <a:xfrm>
            <a:off x="611280" y="836640"/>
            <a:ext cx="777708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. 85 № 1 + один № по выбору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-360" y="286920"/>
            <a:ext cx="871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еугольник - это геометрическая фиг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Line 23"/>
          <p:cNvSpPr/>
          <p:nvPr/>
        </p:nvSpPr>
        <p:spPr>
          <a:xfrm>
            <a:off x="4714920" y="50720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8" name="Line 25"/>
          <p:cNvSpPr/>
          <p:nvPr/>
        </p:nvSpPr>
        <p:spPr>
          <a:xfrm>
            <a:off x="6143760" y="2643120"/>
            <a:ext cx="1439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9" name="Line 26"/>
          <p:cNvSpPr/>
          <p:nvPr/>
        </p:nvSpPr>
        <p:spPr>
          <a:xfrm flipH="1">
            <a:off x="4714560" y="2643120"/>
            <a:ext cx="1439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0" name="Arc 28"/>
          <p:cNvSpPr/>
          <p:nvPr/>
        </p:nvSpPr>
        <p:spPr>
          <a:xfrm rot="2508000">
            <a:off x="4754520" y="4574880"/>
            <a:ext cx="611280" cy="784080"/>
          </a:xfrm>
          <a:custGeom>
            <a:avLst/>
            <a:gdLst>
              <a:gd name="textAreaLeft" fmla="*/ 0 w 611280"/>
              <a:gd name="textAreaRight" fmla="*/ 611640 w 6112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fill="none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</a:path>
              <a:path stroke="0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1" name="Arc 29"/>
          <p:cNvSpPr/>
          <p:nvPr/>
        </p:nvSpPr>
        <p:spPr>
          <a:xfrm rot="15983400">
            <a:off x="6801480" y="4583160"/>
            <a:ext cx="506520" cy="362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2" name="Arc 30"/>
          <p:cNvSpPr/>
          <p:nvPr/>
        </p:nvSpPr>
        <p:spPr>
          <a:xfrm rot="8422200">
            <a:off x="5860440" y="3052440"/>
            <a:ext cx="546120" cy="431640"/>
          </a:xfrm>
          <a:custGeom>
            <a:avLst/>
            <a:gdLst>
              <a:gd name="textAreaLeft" fmla="*/ 0 w 546120"/>
              <a:gd name="textAreaRight" fmla="*/ 546120 w 5461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3" name="Text Box 34"/>
          <p:cNvSpPr/>
          <p:nvPr/>
        </p:nvSpPr>
        <p:spPr>
          <a:xfrm>
            <a:off x="395280" y="155736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ри сторон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4" name="Text Box 35"/>
          <p:cNvSpPr/>
          <p:nvPr/>
        </p:nvSpPr>
        <p:spPr>
          <a:xfrm>
            <a:off x="395280" y="205596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ри угл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5" name="Блок-схема: узел 21"/>
          <p:cNvSpPr/>
          <p:nvPr/>
        </p:nvSpPr>
        <p:spPr>
          <a:xfrm>
            <a:off x="6072120" y="257184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6" name="Блок-схема: узел 22"/>
          <p:cNvSpPr/>
          <p:nvPr/>
        </p:nvSpPr>
        <p:spPr>
          <a:xfrm>
            <a:off x="7500960" y="500076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7" name="Блок-схема: узел 23"/>
          <p:cNvSpPr/>
          <p:nvPr/>
        </p:nvSpPr>
        <p:spPr>
          <a:xfrm>
            <a:off x="4643280" y="500076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8" name="Text Box 35"/>
          <p:cNvSpPr/>
          <p:nvPr/>
        </p:nvSpPr>
        <p:spPr>
          <a:xfrm>
            <a:off x="285840" y="257184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ри  вершины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20" name="Picture 2" descr=""/>
          <p:cNvPicPr/>
          <p:nvPr/>
        </p:nvPicPr>
        <p:blipFill>
          <a:blip r:embed="rId1"/>
          <a:stretch/>
        </p:blipFill>
        <p:spPr>
          <a:xfrm>
            <a:off x="1149480" y="1523880"/>
            <a:ext cx="68436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22" name="Picture 14" descr=""/>
          <p:cNvPicPr/>
          <p:nvPr/>
        </p:nvPicPr>
        <p:blipFill>
          <a:blip r:embed="rId1"/>
          <a:stretch/>
        </p:blipFill>
        <p:spPr>
          <a:xfrm>
            <a:off x="1149480" y="1523880"/>
            <a:ext cx="68436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-Как называется этот угол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4" name="Line 5"/>
          <p:cNvSpPr/>
          <p:nvPr/>
        </p:nvSpPr>
        <p:spPr>
          <a:xfrm flipH="1">
            <a:off x="1771200" y="1628640"/>
            <a:ext cx="2800440" cy="341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5" name="Line 6"/>
          <p:cNvSpPr/>
          <p:nvPr/>
        </p:nvSpPr>
        <p:spPr>
          <a:xfrm flipV="1">
            <a:off x="1763640" y="5013000"/>
            <a:ext cx="4392720" cy="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0" lang="ru-RU" sz="31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называется этот угол? </a:t>
            </a:r>
            <a:br>
              <a:rPr sz="3100"/>
            </a:br>
            <a:endParaRPr b="0" lang="en-US" sz="3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7" name="Line 7"/>
          <p:cNvSpPr/>
          <p:nvPr/>
        </p:nvSpPr>
        <p:spPr>
          <a:xfrm>
            <a:off x="1908000" y="2421000"/>
            <a:ext cx="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8" name="Line 8"/>
          <p:cNvSpPr/>
          <p:nvPr/>
        </p:nvSpPr>
        <p:spPr>
          <a:xfrm>
            <a:off x="1908000" y="5516640"/>
            <a:ext cx="360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Как  называется этот угол?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1" name="Line 4"/>
          <p:cNvSpPr/>
          <p:nvPr/>
        </p:nvSpPr>
        <p:spPr>
          <a:xfrm>
            <a:off x="1835280" y="2349360"/>
            <a:ext cx="2023920" cy="295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2" name="Line 5"/>
          <p:cNvSpPr/>
          <p:nvPr/>
        </p:nvSpPr>
        <p:spPr>
          <a:xfrm>
            <a:off x="3851280" y="5300640"/>
            <a:ext cx="33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3" name="Line 6"/>
          <p:cNvSpPr/>
          <p:nvPr/>
        </p:nvSpPr>
        <p:spPr>
          <a:xfrm>
            <a:off x="13320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35" name="Picture 3" descr=""/>
          <p:cNvPicPr/>
          <p:nvPr/>
        </p:nvPicPr>
        <p:blipFill>
          <a:blip r:embed="rId1"/>
          <a:stretch/>
        </p:blipFill>
        <p:spPr>
          <a:xfrm>
            <a:off x="762120" y="5745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37" name="Picture 2" descr=""/>
          <p:cNvPicPr/>
          <p:nvPr/>
        </p:nvPicPr>
        <p:blipFill>
          <a:blip r:embed="rId1"/>
          <a:stretch/>
        </p:blipFill>
        <p:spPr>
          <a:xfrm>
            <a:off x="762120" y="5745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6:14:10Z</dcterms:created>
  <dc:creator>1</dc:creator>
  <dc:description/>
  <dc:language>en-US</dc:language>
  <cp:lastModifiedBy>Irina</cp:lastModifiedBy>
  <cp:lastPrinted>2023-04-24T23:51:41Z</cp:lastPrinted>
  <dcterms:modified xsi:type="dcterms:W3CDTF">2023-04-24T23:54:20Z</dcterms:modified>
  <cp:revision>205</cp:revision>
  <dc:subject/>
  <dc:title>Математика 3 класс.</dc:title>
</cp:coreProperties>
</file>